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1433-DEB9-40BE-BBD4-DFC6D02F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87A2-93B2-4F0F-B7BD-4A1E46F7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18D4-92AF-4AEA-BB36-3A2C5A27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AC4F-264B-423B-BD69-41799300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0F82-94CD-401A-A163-E8E3CFBE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E22F-307D-4995-B196-2E8AC7CC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011-0A1C-43C4-AC55-0DADC737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D504-1D16-4BF7-B282-398C61D8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66DE-5A6A-4592-A74D-0AA07DDA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F7F1-8FB5-4200-BA91-CD7E9338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9D0C-626D-47C8-B05F-365B33C2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E237-7D41-4CD4-9EC9-F8FD370A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7370-74BB-46F7-9293-7450DB5CD29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en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iz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yad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921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ud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il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3:05Z</dcterms:created>
  <dc:creator>Bafayad</dc:creator>
  <dc:description/>
  <dc:language>en-US</dc:language>
  <cp:lastModifiedBy>معمل الانجليزي</cp:lastModifiedBy>
  <dcterms:modified xsi:type="dcterms:W3CDTF">2005-03-26T04:41:37Z</dcterms:modified>
  <cp:revision>3</cp:revision>
  <dc:subject/>
  <dc:title>عرض تقديمي من PowerPoint</dc:title>
</cp:coreProperties>
</file>